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03C-34BE-4B2F-A1E0-4BCB9B697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8DDB-7140-410B-B46E-EF9AF169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C4C-8AD2-4D46-B1D8-F5274BEE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46E5-7F3B-4273-A7AF-8E21BACB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7D4B-6DFD-4766-8F25-FD8119E7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006-F467-4EAE-AE06-7AB982A4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BE19-8B94-4497-B060-EC8062F6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272-9AA5-493F-A626-583C5A57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530-EE7E-4550-9CF6-9B3AE823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8287-A552-47F7-96D8-128B82FA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5C6-8794-41E8-805C-9B33C51D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409-95CA-4C2D-A3EC-32E2E3A6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817C-AF5C-4E59-91A9-B357BEB37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PRO. VA. RE.  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A. S. 2004 / 200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4724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otesi e proposte sulle prospettive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SECUZIONE DEI PERCORSI: LA PUBBLICAZI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inciare ad operare fin d’ora su materiali che possano assumere una forma definitiva per una pubblicazione sul percorso fatto, attrave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individuazione di un ind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indicazione dei redattori / autori ai diversi liv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indicazione dei tempi di licenziamento definitivo (proposta: luglio 2005 e presentazione settembre stesso an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ORSO DI FORMAZIONE NAZ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’Invalsi offre, nell’ambito delle proprie attività, un’opportunità di formazione indirizzata a docenti senza particolari conoscenze della valutazione con le seguenti caratteristi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uole anzitutto sviluppare conoscenze statistiche di base per approfondimenti d’istituto sui risultati, quali essi s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a una struttura modulare con più modu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 modulo, il 5, è praticamente pronto e sarà attivato immediat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gni modulo comporta un impegno di circa 18 ore compl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 svolge online sul modello For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ssiamo, come regione, segnalare un certo numero di nomi, sarà data la precedenza all’iscrizione delle scuole di Pro.Va.Re; si attendono segnalazioni da subito all’indirizzo di posta elettronica: luigtorc@tin.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CUZIONE DEI PERCORSI: P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ed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econdo il modello proposto a livello re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ubblicazion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su un sito qualsiasi, quello dell’Ufficio Scolastico Regionale o altro locale con segnalazione dell’url (link) al gruppo re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ercorso di lettura e analis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crocia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livello di istituzione scolastica 1 del proprio livello + 1 del livello contiguo, + 2 invece per la sola media che ha continuità sia a monte che a val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livello regionale analisi delle letture incrociate fatte dai gruppi locali e stesura di una proposta di documento finale di sint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CUZIONE DEI PERCORSI: SERVIZ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z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if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u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eriali 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r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initiva stesu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ntro dicembre 2004 da parte del gruppo re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mministrazi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tutte le componenti entro febbraio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bulazi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i esclusivamente secondo modello regionale a cura delle scuole entro aprile 2005 e trasmissione al gruppo reg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isi descritti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i dati da parte del gruppo regionale entro luglio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tituzi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i settembre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SECUZIONE DEI PERCORSI: PROVE, DILEMM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rogativi ed ipotes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i successivi passi da effettu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vorare solo sui risultati delle prove, a scelta multipla, dell’Invals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vero prevedere anche un percorso di ricerca autonomo, ma parallelo, a livello regionale sul modello PRO. VA. RE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ECUZIONE DEI PERCORSI: PROVE NAZ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 pone anzitutto, proposta 1, l’esigenza di sostegno da parte delle strutture regionali alle complesse azioni naziona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iferimento: DIRETTIVA  n. 47 Roma 13 maggio 2004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ndo, ad esempio, funzionale il percorso di conoscenza e approfondimento già svolto dalle scuole di Pro.Va.Re anche per tutte le altre istituzioni scolastiche coinvolte nella rilevazione nazionale attraverso l’offerta di partecipazione percorsi di formazione, su richiesta, di scuole richied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vello regionale saranno attivati laboratori di scambio informativo e di preparazione di percorsi di formazione per coloro già siano stati coinvolti nel progetto Pro.Va.Re e siano disposti ad intervenire a supporto delle altre istitu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ECUZIONE DEI PERCORSI: PROVE SVILUP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lteriori sviluppi a livello regionale, proposta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e analisi dei dati già disponibili entro dicembre 200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livel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’istituto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analisi avrà un duplice sco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licenziamento della versione definitiva delle 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enere una sintesi descrittiva condivisa dei risultati per la pubblicazione f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SECUZIONE DEI PERCORSI: NUOVE PR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ttivazione della produzione di una nuova batteria di prov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ntesa soprattutto come percorso fortemente professionalizzante; i materiali s’intendono caratterizzati da un’accentuata trasversalità interdisciplinare, per classi da decidere di comune accordo; le prove saranno elaborate in modo da contenere innesti coerenti tra diversi ordini scolastici rispetto ad un accertamento, ampio ma equilibrato, di competenze differenti: da quelle più elementari a quelle creative e metacognitive più complesse - consentano valutazioni s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etenze scient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etenze organizz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etenze d’interazion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SECUZIONE DEI PERCORSI: L’ORGANIZZAZION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zione di innesti di strutture, ancora più stabili, a livello provinciale e regionale; precisazione dettagliata e condivisione dell’organigramma con tutte le relative istituzioni e nomin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azione di una proposta di un preciso calendario, locale e regionale, delle attività da svolgersi; suo licenziamento definitivo entro novembre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3:26:07Z</dcterms:created>
  <dc:creator>Ispettore Luigi Torchio</dc:creator>
  <dc:description/>
  <dc:language>en-US</dc:language>
  <cp:lastModifiedBy>Ispettore Luigi Torchio</cp:lastModifiedBy>
  <dcterms:modified xsi:type="dcterms:W3CDTF">2004-10-31T22:39:45Z</dcterms:modified>
  <cp:revision>21</cp:revision>
  <dc:subject/>
  <dc:title>Presentazione di PowerPoint</dc:title>
</cp:coreProperties>
</file>